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C65-903E-4149-A3E3-039E718A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65F-6B0E-40C0-80B8-E4735060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E25-AEDA-4CAB-8646-5E6BA684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D0C-C30F-4BEC-99DC-E430016A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C05-252E-410F-89B2-F67D96B1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7A2-D765-4131-B89E-3ED39D5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A24-E158-4452-B8DD-9432D304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CD7-0310-4F68-A2F5-5D295B82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1C4-57FA-4DDF-A3CA-EADF9C3E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D0C-36D3-4DB6-BFBA-72F1A04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86C-B76A-4F93-BD03-4AA8F89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455-D991-4414-A7BE-C3BD85EF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E039-AAFE-4666-9560-1EEDD3BC6C0A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rcRect l="7633" t="34440" r="11335" b="39458"/>
          <a:stretch/>
        </p:blipFill>
        <p:spPr>
          <a:xfrm>
            <a:off x="0" y="9144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9:47:41Z</dcterms:created>
  <dc:creator>petrolino</dc:creator>
  <dc:description/>
  <dc:language>en-US</dc:language>
  <cp:lastModifiedBy>utenet</cp:lastModifiedBy>
  <dcterms:modified xsi:type="dcterms:W3CDTF">2013-09-30T07:46:18Z</dcterms:modified>
  <cp:revision>2</cp:revision>
  <dc:subject/>
  <dc:title>Diapositiva 1</dc:title>
</cp:coreProperties>
</file>