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303B4-4D8C-458E-AB7A-DA7BC9CA2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2A12C-4861-4835-B8BB-6D834DB1D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67DA9-4B0F-4966-A1E6-0EDF434BB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E147D-1937-407E-B0DA-0F5A89C46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64085-5575-474E-A89C-E14822E38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60131-68B0-4933-9FD7-8D26002E0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C4944-B1A4-462D-B4C8-E70A6FA12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3E80F-299B-4DFD-BFB2-84D02E4EA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D0CB9-B1D8-45EF-A8B5-8FA47D0A7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D2CD2-3A12-461B-9D81-815F0FF0F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BDDB8-C175-42C9-A9C2-0F81C050A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B81A0-A25D-4716-9DCB-E068F8E31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F11C6-876E-4DCE-BEC6-231346D36582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ttangolo 3"/>
          <p:cNvSpPr/>
          <p:nvPr/>
        </p:nvSpPr>
        <p:spPr>
          <a:xfrm>
            <a:off x="914400" y="1843200"/>
            <a:ext cx="70866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600" spc="-1" strike="noStrike">
                <a:solidFill>
                  <a:srgbClr val="000000"/>
                </a:solidFill>
                <a:latin typeface="Calibri"/>
              </a:rPr>
              <a:t>L'esercizio della funzione legislativa non può essere delegato al Governo se non con determinazione di principi e criteri direttivi e soltanto per tempo limitato e per oggetti definiti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7T11:51:48Z</dcterms:created>
  <dc:creator>petrolino</dc:creator>
  <dc:description/>
  <dc:language>en-US</dc:language>
  <cp:lastModifiedBy>petrolino</cp:lastModifiedBy>
  <dcterms:modified xsi:type="dcterms:W3CDTF">2013-10-17T11:54:12Z</dcterms:modified>
  <cp:revision>1</cp:revision>
  <dc:subject/>
  <dc:title>Diapositiva 1</dc:title>
</cp:coreProperties>
</file>