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200E-A94E-4132-806C-F898A97DC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1B1-F0DA-43FF-93C0-05E47248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E4E-9C49-4D42-99C8-41D76F13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88AF-0957-448A-8B96-444861CA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14B0-2F64-41F6-9057-56A0F5BD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DE2-2265-486F-8CE4-880CA043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086-8F4C-489D-9A7C-9CE7A668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C74-BB03-4500-A32B-03D525C8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DF76-5E32-472D-B54C-01C58590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DF9A-F251-4E33-B002-6C19CD87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EB32-021A-45CC-8C9C-B8A5FA00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599A-2C0D-48F9-9C4E-36727B2D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1F9A-00F9-4E71-83CA-E47C02D6128B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tangolo 1"/>
          <p:cNvSpPr/>
          <p:nvPr/>
        </p:nvSpPr>
        <p:spPr>
          <a:xfrm>
            <a:off x="685800" y="140652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it-IT" sz="3600" spc="-1" strike="noStrike">
                <a:solidFill>
                  <a:srgbClr val="000000"/>
                </a:solidFill>
                <a:latin typeface="Calibri"/>
              </a:rPr>
              <a:t>Considerato che nel Consigl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Calibri"/>
              </a:rPr>
              <a:t>dei Ministri dell’8 marzo 2013 è stato deliberato, in seconda lettura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Calibri"/>
              </a:rPr>
              <a:t>lo schema di regolamento sul Sistema Nazionale di Valutazione, di cui il progetto VALES costituisce la sperimentazione di riferimento 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7T09:42:40Z</dcterms:created>
  <dc:creator>petrolino</dc:creator>
  <dc:description/>
  <dc:language>en-US</dc:language>
  <cp:lastModifiedBy>utenet</cp:lastModifiedBy>
  <dcterms:modified xsi:type="dcterms:W3CDTF">2013-09-30T07:46:45Z</dcterms:modified>
  <cp:revision>2</cp:revision>
  <dc:subject/>
  <dc:title>Diapositiva 1</dc:title>
</cp:coreProperties>
</file>