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7848-C7B3-45A9-A447-10C52495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45D2-A85E-4261-B8AB-BD51B934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DC53-E47B-4FC7-99DA-28823E26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DAE7-94E3-4A42-B686-B587A4E7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CF6B-6009-4F5B-8F44-44C07B38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2479-7E8E-432B-9476-C0462DA0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78E4-4A8D-46E2-8CFC-9E224F44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5D1C-E33B-4C01-BE08-EC742DB7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0DCE-ECA7-49F7-B029-376A6A5C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F1B4-6D1B-43DA-8CCE-6B05F618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1C79-A632-468C-A1E4-288651B0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6089-FF10-42C5-A443-FD7F4D15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FF0C-9B8C-46D1-AD98-6CD897269A9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tangolo 3"/>
          <p:cNvSpPr/>
          <p:nvPr/>
        </p:nvSpPr>
        <p:spPr>
          <a:xfrm>
            <a:off x="228600" y="380880"/>
            <a:ext cx="8534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Con regolamento da emanare entro sessanta giorni dalla data di entrata in vigore della legge di conversione del presente decreto, è individuato il sistema nazionale di valutazione definendone l'apparato che si articol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a) nell'Istituto nazionale di documentazione, innovazione e ricerca educativa, con compiti di sostegno ai processi di miglioramento e innovazione educativa, di formazione in servizio del personale della scuola e di documentazione e ricerca didattic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b) nell'Istituto nazionale per la valutazione del sistema di istruzione e formazione, con compiti di predisposizione di prove di valutazione degli apprendimenti per le scuole di ogni ordine e grado, di partecipazione alle indagini internazionali, oltre alla prosecuzione delle indagini nazionali periodiche sugli standard nazional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c) nel corpo ispettivo, autonomo e indipendente, con il compito di valutare le scuole e i dirigenti scolastici secondo quanto previsto dal decreto legislativo 27 ottobre 2009, n. 15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5:02:33Z</dcterms:created>
  <dc:creator>petrolino</dc:creator>
  <dc:description/>
  <dc:language>en-US</dc:language>
  <cp:lastModifiedBy>petrolino</cp:lastModifiedBy>
  <dcterms:modified xsi:type="dcterms:W3CDTF">2013-10-17T15:04:57Z</dcterms:modified>
  <cp:revision>1</cp:revision>
  <dc:subject/>
  <dc:title>Diapositiva 1</dc:title>
</cp:coreProperties>
</file>