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5534-47C1-40B2-919B-75899A62F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A1A2-E858-43D9-8105-FB010929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C314-D306-43B3-B9C6-45375EA9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931-B188-460F-BF3E-CEEE958F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4382-B9F4-45F8-8967-F4FC928F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E17-226B-466C-8595-34526B5C3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C2A4-D808-487C-BAE9-28425C7F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0AAA-56A2-4AFD-843B-0736EE83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FF16-1CC1-48D2-BA9F-B03E2BE0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995B-CFA7-4374-BFCB-96BD6600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772E-2CA8-413B-A329-053E6A4C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F26F-CDD6-4046-83C0-1C7F41E7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B58F1-437E-4C8D-95BE-D4FDBBF31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Valutazione, certificazione, rilevazione degli apprendimen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delli, definizioni, caratteristich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riteri, modal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Model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modello si basa su un paradigma interpretativo e descrit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 modello deve essere concettualmente sostenibile e metodologicamente fun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Defini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processi di apprendimento: lo sviluppo progressivo di competenze trasversali (conoscitive, linguistico-comunicative, metodologico-operative, relaziona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surazione degli apprendimenti: rilevazione numerica di dati quantitativi raccolti attraverso prove e relative prest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alutazione delle competenze: descrizione dello sviluppo di tipi e livell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relativ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competenze con riferimento a livelli attesi durante un determinato perco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rtificazione delle competenze: descrizione di tipi e livell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assolu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competenze con riferimento a una scala progress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ilevazione delle competenze: descrizione di tipi e livelli di competenze con riferimento a un campione di appren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aratteristi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ché?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ottenere e socializzare informazioni sui processi di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e cosa?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tipi e livelli 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hi?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insegnanti e apprend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Quando?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urante e alla fine di perco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me?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stabilire criteri e attuare modalit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rite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ccorre stabilire tipi e livelli di competenz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la valutazione i livelli di competenza previsti sono relativi stabiliti come livelli attesi per ciascun periodo del percorso formativo. La valutazione si riferisce a questi livelli e si può esprimere come </a:t>
            </a: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livello pienamente raggiunto, raggiunto, parzialmente raggiunto, non ancora raggiu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la certificazione i livelli di competenza stabiliti sono assoluti e fanno riferimento a una scala progressiva riconosciuta e condivisa. I livelli possono essere espressi con numeri, lettere o paro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la rilevazione i livelli di competenza considerati possono essere relativi o assolu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accertare i livelli di competenza raggiunti occorre individuare e raccogliere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ndicatori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legati a comportamenti osservabili che danno informazioni sullo sviluppo delle competenze.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ndicatori 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di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ompeten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gi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effettuare determinate operazioni come spostare/spostarsi, abbinare, raggruppare, seriare o scegliere, effettuate in base a un determinato input fornito e criterio da applic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appresent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usare un linguaggio grafico (produzione di disegni, schemi, simboli, ecc.), un linguaggio corporeo (produzione di mimo, gesti, espressioni, ecc.) oppure un linguaggio sonoro (produzione di suoni, rumori, ecc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Verbalizzar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produrre il parlato e/o lo scritto (anche in forma embrionale) in base a un determinato criterio per intervenire, dare risposte, completare, trasformare o produrre una parte o tutto di un certo tipo di testo, e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Modalit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viduare la competenza/le compet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viduare l’indicatore/gli indic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dividuare le modalità di raccolta degli indic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accogliere gli indic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rpretare gli indic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primere la valutazione, certificazione o rilev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9:47:00Z</dcterms:created>
  <dc:creator>mdodman</dc:creator>
  <dc:description/>
  <dc:language>en-US</dc:language>
  <cp:lastModifiedBy>Martin Dodman</cp:lastModifiedBy>
  <dcterms:modified xsi:type="dcterms:W3CDTF">2013-02-12T13:28:17Z</dcterms:modified>
  <cp:revision>64</cp:revision>
  <dc:subject/>
  <dc:title>L‘apprendimento linguistico</dc:title>
</cp:coreProperties>
</file>